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383-5A57-46BD-B9C4-7B78EA15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8A4-43FB-4B8A-BBE9-1E90A011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582A0-0CCF-4CDE-8DDB-C6F255E9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C62B7-B9D5-49B3-BBBF-A76CB28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58A0F-D4D0-4B74-82C0-B8E81149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A500-DEB6-4F34-97D2-AF73E49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957C4-BA2E-49CE-8EE0-B069E1F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87E27-E5FC-4884-AB17-D209FE98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6123F-3571-4C91-B077-1188912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FA5A5-F1C0-4738-93F4-C6B7EB85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408EC-69BA-4C8F-9591-2C9E8ECF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35012-9F63-40EA-87AB-B13E38F6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627-F78F-40AE-A28E-7EF50DB3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0F295-B6B8-479B-8962-91305753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FB555-C536-4E3F-9DCB-24F74489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81BC7-FBC4-468C-92BA-3D2028B5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EFBBF-4789-422B-BFBE-9D04C11A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89F40-7FDE-4B5C-9E52-C72D429F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CFE91-9051-47EA-B4F3-4BA6C7D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F5596-3FEB-4502-A037-D0BEA4E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67B35-5EB8-425C-AA35-10BE62A7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E7ACE-4B42-44DB-AC82-B79D9E11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3494C-5EBC-41C7-8432-6444C2AB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97C-6731-4C31-BA43-CA7C92F2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ECEC2-CF64-43EB-9F32-C3E45915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958A2E-589C-4120-A35E-D4E7A9EE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D7C724-5AC1-42DD-AB49-26D09D64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70DE4A-CA17-4038-A102-F76747E3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416CDA-3578-4CF3-9816-1C1D7DD0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20D42E-9959-46B7-9F40-D68F43C7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0171DC-CF1F-4D62-A3A3-415F1A14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22CE4A-183B-4887-A41D-066C670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3F2FD2-334A-4FF7-BC9F-6E7417BA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AAFD62-B167-4570-8518-E77FA31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22E-95D4-4A92-B5BF-5198CB51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72E2D7-B737-4EE0-BCE4-16591601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76CFD7-83FF-4A0B-82E2-2EF3AFC3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28E3F2-AF03-40DA-BACD-947182BE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F9B04-00F3-4C30-B394-64882EBE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8BF0C-1DD7-4D7C-9A42-619402A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9568E-781C-4D31-9254-A4E71A63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8DE3A-F9B3-49BF-8506-5BFD900F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3EA4B-7E44-4716-9485-ADB34116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55FC5-9A5B-4F62-AE61-BEE334AD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AA30C-5D17-49DF-8110-9450EE0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8DCA-2228-4527-9109-4DF97AF8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DC87A-DA6C-4F99-8F59-3839647A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A9F39-26CB-42C8-A241-4580B076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DC166-041C-4160-94F0-4C68D8A9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4DFF3-06E2-40CD-BB8B-50359615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BDA8B-D8F8-40A7-87BA-B78EA58F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656AE-2BDB-4972-8D6E-1D41C75D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DBB02-C9C0-4B75-8ED5-476B59E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16BD0-F42C-41C3-9C0B-E9C7442D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9EFFC-6BA6-4304-A61F-356A5F90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6BFC3-2996-44AC-BB83-73C1B824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4690-1974-488A-8500-0D232F95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E5CC7-F309-493A-A879-174F5370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31A7C-C357-4E29-8DF7-45A879A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F7162-B9A4-4B12-AD98-3D704DF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BB737-79CF-495C-B14B-EC0539E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5C27A-6F7F-45BB-87D9-6AF224D7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BF691-43A9-4ABC-A0D5-688D30E1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0A301-0F67-4661-B572-EC860E47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3FA50-9B30-4859-929D-4954DE6E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B8A17-1CBE-4CEF-A0D2-0A3083B2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47D57-097B-4E83-95E3-4EB097E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2F67-DD92-4450-AADB-7B3D7AE4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E2644-7282-4FDA-BB4E-64AA1F72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7A7F6-7714-4DF3-B67E-1E3D8B4E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BA809-357C-4F4F-B307-14A045B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F6CD3-7ACE-47B8-A93D-3685B9C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270AA-306B-43D8-88E2-3BF83E71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F3937-B770-497D-9DC0-DAE57582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54720-389A-4192-AE6A-01CAB09B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CA119-E863-4B64-84B3-27E43B6D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2DFC7-5E44-4B35-A2FD-76F36976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03D74-058F-48E8-AB45-FA6CC248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774D-BFE5-449D-97D4-9D025BA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33B61-643D-42D0-83E7-B3A6D361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34CD7-F9D6-42AE-A457-A9DC59E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927AF-821F-4349-BBC2-359E7E7B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D0CF2-D1AA-45C1-991B-9409DAC5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6ED3E-4D23-49B0-B310-254E8D52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56624-59A2-4FF6-821F-F7EA2A1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739C4-5B0A-424A-8822-616F120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20928-AEC3-43FB-8E58-0D67C20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95AED-0D26-43E8-90AA-4258714D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38196-3CE8-45F6-B385-897DF612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0032-8310-4EEC-A923-65742E91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BC902-12BE-4D7C-AD30-ACA73DCC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F83B4-D5CB-46E7-85C6-A3842724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AFE8D-A540-4690-B0A7-961259E7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0B373-5EBC-4EF0-9D3D-619E1365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DB95C-B723-4DAC-9489-294EEE1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8AB1C-1D80-4727-8F72-49A0C7DD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C8206-ED86-4958-964E-C08CACC7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63D4B-0590-48AD-A3A4-2E0526A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5EBBC-164D-4805-9E41-0E18FB40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B3CF3-AD34-4D35-AD23-3634972B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2A7D-1B4A-4053-8D38-EE10E1C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3CC69-0760-45D0-A1F4-9695BFD7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A2BFB-A8A8-47B0-B1F0-E371F3FB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1AD00-2CE3-4E5A-90D6-F0A494B7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FDB-EFC6-483C-AB46-A18A35F2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53B8-57D6-47FB-947A-EC64148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0B1-5D97-4B9F-8084-4848834E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137-757C-4EBF-8146-66BF85E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5321-7C12-4570-A50B-393651A3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E985-12F1-4EE4-A4B0-DFA4A581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BB3D-9280-4269-94EF-20A6CA37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5961-7EF3-4145-A7F8-D5C28640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8631-1FBB-48CE-A5E9-B36695D9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D6E5-0766-4D4A-BF6E-56489908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FF63-57CB-419A-AC13-679B6665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A74-8F7B-4A88-A0D1-8A53971B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E875-91F9-4A08-92D4-2FE37F8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96B7-212E-4C57-909B-301D1C9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5DC2-9EC5-439E-BF76-0DFC9BD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B0EA-5D30-44C2-AC94-6604BBC2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649C1-EC81-46F6-80E7-EF84299D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97F0-6384-40F8-BF27-1C80B96F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0DD2-42D1-4B5F-8626-7E04CE9C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8414-6F20-4458-B3D5-4F728BC5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2F96-9EB0-4CEF-919A-F5B6AEE9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1F2C-53AC-44BC-8CF9-0CDE40D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6D1-0537-4707-BCD6-F91EDE85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97E3-C70A-4EAD-A3F2-8E4DFC5C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03DE-10F7-4BE1-B176-7CACB00A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3476-22DB-4063-B29B-534F7050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D38E2-4F5A-415D-AE3A-C2DD86CF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F233-0FA7-4B80-BF49-44E75EA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44403-F414-45C2-A6AB-40F8438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CE31-A31E-4395-98C2-B74D740E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2F69E-F782-4D95-9276-3270700B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109A-C9B6-4B70-9E86-4EFF2524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3F6B-ECBA-44D6-B076-C8B86AD2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796-95A9-4BF5-AA80-CD7C4C5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0811-5B80-4318-BECB-DF31ECC7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CC4B8-4659-4859-A319-B8C714B6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6BFD7-A7D6-4E3D-A4B0-B9C0D99A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A3B5-5704-46D3-829F-583B5783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9A9D0-19EA-42A0-8A93-E524956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FDB9-649E-4FD5-9123-6DF18219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A909-65BB-44D3-91D8-CAC1CDFC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EF13-FEF1-4C85-9FD1-F579427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DA0D-9471-4AA0-932C-4C17B7C2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1FCF8-8360-4595-94F2-9B9B0151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3FC-7E01-4099-ABD2-60F0DA8C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0716-A1F0-441C-BC15-56F13E6B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0FC2-E18E-4FD9-8E8C-BA520DB4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1ED18-38C3-4264-B4FB-3F5AD412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7DB80-74DE-4C2E-B323-62DF181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1873-AD1D-475C-89B7-196C5150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35C2-F176-483D-B9F2-1C41587D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B03E-4E01-4282-873C-0F7DDBC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2791-E8B3-449E-B489-A3740796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ED38D-EC2A-4E14-91A3-DB78867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CD12-9A2C-46B3-BDEF-8F507FC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610-62C2-45B5-B2BA-65BFE02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AE131-FCDC-467D-923C-C4591719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3822-C5D1-4253-8697-F5077ADB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40DBD-DBB1-4E6E-82F0-E37E7675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9CEB-52F4-4265-B6AB-0C09A412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15375-D7A3-4E62-8992-9DC647B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6E347-09DB-4AA8-98DC-4710E72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B00B-4B30-442F-9961-941F37A6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28953-E82D-48DC-8A40-70908F3A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5C646-7544-438E-B857-E1D9DA27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900FD-A5EC-4667-B417-5A51591B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15E-202E-4011-AD41-7A838297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A008B-8378-458F-A11D-AAA440A8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EBF26-2352-49C2-BF30-7D43466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27FD-5C7B-4BF3-911B-A871F659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3B2E1-EB33-45C0-9510-EB94182C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6D82-A07D-4B5D-A1F1-EA6DEA66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D7B8-8C93-4CB3-8467-666814BB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84B90-CCCF-4D86-AFD6-E3E9B298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7D371-9AFB-4E6E-BE8F-5994259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F6074-08B7-440C-B76B-8095C2A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DBE4D-DF6E-4C19-BE63-FEC4A96E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21D-2CF6-4871-9FE0-D699C0DC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7B457-219E-42E6-B4A8-CA22979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D88EC-0F74-4AEC-9AED-74249333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DB66-5517-45FF-8183-0281351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44D3-43CE-4D4F-8989-EA0A88E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E149F-B93C-48A6-B0CA-C83D38C0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0B17-BBC4-48F3-A781-7AFBD7B8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645F2-ACD2-4C44-98D9-1DD784AC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E6499-44ED-4CA2-8688-3735A449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11A7C-3B1F-4DBF-8754-2239405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A74DB-6D4D-4664-A9B8-C6361D9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C84D-1049-4CAF-92E0-02B43EC1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5AD9-CB3D-4D11-A7B4-25DBDB80B3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6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0C95-7539-4323-A5C1-BF4765423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2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CA9-0823-4CB9-806D-7641CFADB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8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8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8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9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0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0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2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1A1E-2233-462A-B818-A5E87DB083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7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9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9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D8F3-11BE-4702-98B3-2D75A0F037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8FAA-6A68-4A66-A742-7A6C97669B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3F71-BA9C-49A5-A74C-08CB2377A7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6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8BD7-0798-4197-B0D3-76E0DDE2A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525-1405-46F1-AAB0-B1435664F8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1A8-AA2A-438F-B646-09B0319260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88B-06E3-4371-906C-DB35F9DA1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52D8-1054-4D01-BF84-AFC1DC00C4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650D-FB2D-40E5-93B8-7785B4D6FF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7F21-BF85-4CB6-ACCF-53924C4C41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7B6-69F3-48F7-AE3B-A65C7378BA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qnyc.org/" TargetMode="External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qnyc.org/NYC052376/whatisworkshop_new.html" TargetMode="External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Workshop Model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Optimizing the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Mini-less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ri Gr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larisa Konstantinovsk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702.22 – Fall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O’Connor- Petr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rincipal of the Title 1 school where the research will be condu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arents/guardians of the student of inte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parents to obtain additional information about the particip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oth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rade teachers regarding their opinion of the effectiveness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students about their opinion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A:  Consent For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EASE SIGN AND RETURN TO YOUR CHILD’S TEACH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to participate in the thesis p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’s name 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________  I give my permission for my child to participate in the anonym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is/research paper over the course of the school year of 200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ent/Guardian Signature: ____________________  Date: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granted:  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B:  Surv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parents/guardi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prefer that my child receives more direct reading instruction during school hour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teac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s will score higher on standardized tests if they receive more direct reading instru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stud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ke reading independently in schoo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1743" name=""/>
          <p:cNvSpPr/>
          <p:nvPr/>
        </p:nvSpPr>
        <p:spPr>
          <a:xfrm>
            <a:off x="838080" y="91440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TC or not to TC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t is the questio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ble of Cont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Review of Related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Hypo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Participants (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Instr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nd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A:  Consent F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B:  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 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to grades falling and illiteracy rising, this research is based primarily on the “Workshop Model”; more exact the reading and writing workshop as described in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tqnyc.or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“The workshop model intends for the students to learn reading and writing skills through much participation amongst themselves and their peers”, which follows whole-word learning and is in direct opposition of the phonics methodolog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Teacher’s College format of the model itself is a scripted and timed method of teaching or facilitating learning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ach reading and writing workshop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consist of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Teaching Poi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ddress the standard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onnecti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ctivate prior knowledge and focus attention on the lesson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ni-less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Demonstrates the teaching point as if you were working independently for 10-15 minu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before sending them to work independently or in a group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ctive Engageme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tudents work independently or in groups while you are conferring or assessing individual or small groups of student readers or writers for 20-30 minutes based on your mini-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d-Workshop Interrup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  Remind the students of the Teaching Point and compliment for no more than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hare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Two or three students get to share what they wrote or read, linked to the day's lesson for 1- 2 minut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losure / 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Homewor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hould be based on the teaching point of the day's 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rpose of the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ough this research the hope is to find out if such a rigorous structure of teaching is most beneficial for students or if more could be learned and retained without a time limitation and other restraint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ibliogra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 Model.  (n.d.).  Retrieved September 30, 2008, from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tqnyc.org/NYC052376/whatisworkshop_new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eachers the opportunity to model skill or strategy (Adriana, 2006) (Robb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mini-lesson allows teachers and students to succeed (Popham, 197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taught using the Workshop Model are more likely to read for pleasure (Lause,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zes the class for each student (Carmicha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conferences with students (Furr, 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er a teachers contract, they cannot be excessively micromanaged (Callaci, 200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should decide how to teach his/her own students (Krasner, 197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need to have the freedom to modify lessons and activities as needed (Lieberman, 2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ement of the Hypothe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Workshop Model’s rigorous time schedule will enhance the discipline to provide the optimum opportunity for third and fifth grade readers and writers (students) in a Title 1 school to gain knowledge and higher test score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ty-eight third and fifth grade students in a Title 1 school in Brooklyn, New Yo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0:37:10Z</dcterms:created>
  <dc:creator>0e-17</dc:creator>
  <dc:description/>
  <dc:language>en-US</dc:language>
  <cp:lastModifiedBy> Lori M Grabel</cp:lastModifiedBy>
  <dcterms:modified xsi:type="dcterms:W3CDTF">2008-12-04T00:28:27Z</dcterms:modified>
  <cp:revision>36</cp:revision>
  <dc:subject/>
  <dc:title>The Workshop Model: Optimizing the Mini-lesson</dc:title>
</cp:coreProperties>
</file>